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6F6F-B0C1-41BC-A885-0F81F93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5CE-5872-46B3-8115-A154D9C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87C-1872-4001-90DD-1EB13299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FB4-0522-4361-A1BB-0265AB4F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410-DFE3-4CE7-82A3-13BFE478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DC0-333B-4CA1-B4C7-639F6352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581-EA26-4625-9A38-1CA4BA82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797-E21C-4D2B-868A-ACB45CF6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2A2-930A-49FC-9DA1-5B7E20EB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3BC-E07F-441C-81D9-8772725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AE1-197E-4E62-8963-EA2D134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F60-DA21-490B-A78C-598F5EA7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BC8-B1F8-48CD-B6C1-89EA2D60A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hyperlink" Target="mailto:claudia@semad.mg.gov.br" TargetMode="External"/><Relationship Id="rId13" Type="http://schemas.openxmlformats.org/officeDocument/2006/relationships/hyperlink" Target="mailto:elizabeth.ferreira@semad.mg.gov.br" TargetMode="External"/><Relationship Id="rId14" Type="http://schemas.openxmlformats.org/officeDocument/2006/relationships/hyperlink" Target="mailto:cpl@ief.mg.gov.br" TargetMode="External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708280"/>
            <a:ext cx="813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rt. 8º) O processo devidamente instruído com justificativa, termo de referência, autorização do ordenador e toda a documentação necessária, será encaminhado para a Superintendência de Recursos Logísticos e Manutenção, para que seja devidamente encaminhado para a Procuradoria/Assessoria que elaborará Nota Jurídica sobre a viabilidade jurídica e adequação do pedido de contratação a uma das modalidades de dispensa/inexigibilidade de licit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10526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RATANDO-SE DE DISPENSA / INEXIGIBILIDADE DE LIC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26920" y="1197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8360" y="177336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5280" y="1341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na Procuradoria/Assessoria Jurídica, que encaminhará o processo à Superintendência de Recursos Logísticos e Manutenção, instruído com 3 (três) vias do contrato para colher as assinaturas. Após assinado, o Contrato, será publicado pela Procuradoria/Assessoria Jurídica (sugestão: definir um único setor responsável pelas publicações, quem sabe o Núcleo Jurídico). As vias do contrato deverão ser distribuídas da seguinte forma, 1 (uma) via deverá ser anexada ao processo, e 1 (uma) via para a parte contratada, e 1 (uma) via para o setor solicit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9640" y="1125360"/>
            <a:ext cx="80647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ado o contrato, o processo será encaminhado de volta à Supram/Regional, para finalização de procedimento no SI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a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erintendente de Licenciamento e Atos Autorizativos, no caso das Supram’s e direcionado a Assessora da Diretoria Geral do IEF, no caso das Reg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quanto à disponibilidade orçamentária para o aditamento em questão, e confirmará, por meio de ato formal, a aquiescência do responsável pela ação a que o contrato está vincu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não envolva disponibilidade orçamentária, o termo aditivo poderá ser providenciado sem aprovação da Superintendência de Planejamento e Modernização Institu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ram/Regional deverá providenciar a minuta do Termo Aditivo e encaminhar à Procuradoria/Assessoria Jurídica local para análise, e elaboração de Nota Juríd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da a minuta, será colhida as assinaturas das partes e providenciada a publicação do Termo Adi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ssessorias Jurídicas deverão orientar quanto à interpretação dos atos normativos a  serem  cumpridos pelo órgão ou entidades conforme previsto na Lei Complementar 75/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eração dos contratos será feita pela Procuradoria/Assessoria local (no caso de regionais/supram’s), ficando estabelecido que cada órgão terá sua numeração própria de acordo com a unidade orçamentá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O numero se iniciará com a unidade orçamentá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137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/ 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Sul – Unidade Orçamentária: 137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te – Unidade Orçamentária: 137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Jequitinhonha – Unidade Orçamentária: 137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Alto São Francisco – Unidade Orçamentária: 137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Triangulo Mineiro – Unidade Orçamentária: 1370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Zona da Mata – Unidade Orçamentária: 1370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Leste Mineiro – Unidade Orçamentária: 137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oeste - Unidade Orçamentária: 1370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21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is IEF/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Norte – Unidade Orçamentária: 2100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deste – Unidade Orçamentária: 2100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Rio Doce – Unidade Orçamentária: 210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Mata – Unidade Orçamentária: 210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Triângulo – Unidade Orçamentária: 2100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oeste – Unidade Orçamentária: 210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te – Unidade Orçamentária: 210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Sul – Unidade Orçamentária: 210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ul – Unidade Orçamentária: 21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Paranaíba – Unidade Orçamentária: 210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Médio São Francisco – Unidade Orçamentária: 210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Oeste – Unidade Orçamentária: 210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Jequitinhonha – Unidade Orçamentária: 210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) Local onde será firmado o Contrato (sede; regionais; supran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D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 SÃO FRANCISC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EQUITINHONH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STE MINEIR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L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ÂNGULO MINEIRO E ALTO PARANAÍB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ONA DA MAT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OES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I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ES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O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ÂNG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PARANAÍB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MÉDIO SÃO FRANCISC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JEQUITINHONH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PLANEJAMENTO E GEST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8 a 22 de Fevereir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78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) Número que define o Instrumento Juríd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to: 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ênio: 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(termos de doação, cessão de uso, cooperação técnica,etc.): 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) Número do Instru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) Ano em que está sendo firmado o Instr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um Contrato Firmado pelo IEF Sede: 2101010100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2101: Unidade Orçamentár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) 01 : Se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01:Contra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001: Numero do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07: Ano d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8424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Superintendência de Recursos Logísticos e 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Superintendente: Anderson do Carmo D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4/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Coordenadoria de Gestão de Supr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áudia Regina Gomes 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laudi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ordenadoria de Gestão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Elizabeth Dutra de Faria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lizabeth.ferreira@semad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missão Permanente de Licitação – C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eusa de Lima C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pl@ief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72/5779/57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07664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informações sobre a nova ordem de serviço, referente a padronização de procedimentos a serem adotados nos processos de contratação e compras pelos órgãos e entidades que integram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ORDEM DE SERVIÇO N.º 03 DE 18 DE FEVEREIRO DE 2008</a:t>
            </a: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3357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MONTAGEM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844640"/>
            <a:ext cx="813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contratações deverão ser iniciadas através de pedido de compra direcionado ao Superintendente de Licenciamento e Atos Autorizativos, no caso das Supram’s e direcionado a Assessora da Diretoria Geral do IEF, no caso das Regionais, para aprov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a existência de recursos orçamentários e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52640"/>
            <a:ext cx="81342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de consumo e/ou permanentes, o demandante deverá consultar, prévia e formalmente a Coordenadoria de Logística sobre a disponibilidade do material no almoxarifado ou na central de equip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permanentes fora do plano anual de compras elaborado em janeiro, a aquisição deverá ser autorizada pelo Subsecretário de Inovação e 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dido deverá conter todas as especificações do objeto/serviço demandado, de forma minuciosa, clara e precisa, juntamente com a justificativa da contratação e Termo de referência do objeto, devidamente fundamentado, detalhado e anexado ao formulário de solicitação mensal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06064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rmo de Referência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etalhada do objeto a ser licitado (quantidade/código/descriçã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o custo, contendo a sua composição e, quando for o caso, as variáveis que compõem o custo tais como acondicionamento, embalagem e fr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s métodos de fornecimento/contratação (mensal, anual e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azo e local para a execução do contrato, quando hou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 entrega do material ou prestação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riminação do valor quanto ao desembolso, de for parcel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naturas das autoridades compe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RMO DE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1280" y="1413000"/>
            <a:ext cx="8134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- O processo deverá ser devidamente autuado e numeradas e rubricadas todas as páginas de forma crescente, sendo a capa do processo a primeira (n.º 1) página do mesmo, seguindo-se o pedido de Abertura do Processo de Despesa/Contratação pelo setor solicitante (n.º 2) com a descrição do objeto a ser contratado e o seu valor estimado e com cópia do formulário de solicitação mensal de recursos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processo administrativo para realização de licitação, o formulário de solicitação mensal de recursos será utilizado como pedido de abertura do processo de licitação, desde que assinado pelo ordenador de despesa responsável pela a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11280" y="1052640"/>
            <a:ext cx="8134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484280"/>
            <a:ext cx="8134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licitações, já instruídas com a autorização de abertura e certidão de existência de recursos, serão encaminhados à Supram/Regional para montagem do processo, realização de pesquisa de mercado e elaboração da minuta do edital,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uta do edital deverá ser anexada ao processo e encaminhada à Assessoria/Procuradoria Jurídica competente para análise, aprovação e elaboração da Nota Jurídica, conforme parágrafo único do art. 38 da lei 8666/9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casos de processo conjunto – aquele que envolva mais de um órgão ou entidade do SISEMA – a ratificação poderá ser feita por qualquer um dos Procuradores dos órgãos ou entidades participantes do proces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9640" y="1628640"/>
            <a:ext cx="813456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´s, a elaboração da minuta e aprovação deverão ser elaborados pela Assessoria Jurídica lo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responsável pela emissão de nota jurídica quanto à aprovação da minuta de edital, à homologação e elaboração do contr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anderson.diniz</cp:lastModifiedBy>
  <dcterms:modified xsi:type="dcterms:W3CDTF">2008-02-20T10:36:31Z</dcterms:modified>
  <cp:revision>19</cp:revision>
  <dc:subject/>
  <dc:title>Slide 1</dc:title>
</cp:coreProperties>
</file>